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97D-38C2-4339-9153-F319B340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683-B8A9-4A70-BDF4-188B0BB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69B-6694-490E-A7ED-C090999B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E37-E0EB-4D9D-B49B-AA45A9FD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7C2-09D4-4BE6-B2AD-19355343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A67-DA0A-4EA6-A240-A805B657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B1B-AB1A-4F75-AD01-D8DEDC92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B5E-8123-48A8-84DA-7D90B014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A17-71B2-419D-8C50-A64F32F6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624-2D99-4A96-AA51-C7944E04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D8E-F68C-405C-96A4-BD9E9723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E40-16EA-4C4B-935E-A3D72B4D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5205-E5B8-41FB-B1AA-211731DAE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-dimensional arr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2193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 = 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9680" y="2057400"/>
          <a:ext cx="40388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03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52480" y="53341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 of a 2-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7621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929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=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929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 1  2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11 12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 21 22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0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1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12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13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2971800"/>
          <a:ext cx="83818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3818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438280" y="617220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w-major stori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765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][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an indirection expressio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i*n+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ow siz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instance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0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0*4+0) = *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0 is being accessed,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1]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1*4+2)= *(x+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12 is being acc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2-dimensional array cannot be viewed as a pointer with a body attached as in 1-dimensional case. It is essential to know the row size for index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general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33520" y="914400"/>
          <a:ext cx="9448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9448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80880"/>
          <a:ext cx="7391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391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533520" y="914400"/>
          <a:ext cx="89917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8991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33520"/>
            <a:ext cx="88394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...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=*(x 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..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s the size (limit) of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index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=2.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ynamic multi-dimensional arrays we must “fool” the index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743200"/>
          <a:ext cx="67057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6705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*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 = malloc(3*sizeof(int*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p == NULL) err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= malloc(4*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* let us put in values as sample accessing of the array item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j = 0; j &lt; 4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[j] = a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4:10Z</dcterms:modified>
  <cp:revision>300</cp:revision>
  <dc:subject/>
  <dc:title>No Slide Title</dc:title>
</cp:coreProperties>
</file>