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D118-5342-4085-A337-701636BC5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81FF-F652-411C-A73C-297538B32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5AE6-3A57-4D3B-BDDF-F13C62905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B37B-D8B4-4971-A99C-C5059F29D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54FC-73FF-4E6B-91BF-60084474E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3177-4574-4A6A-9EED-520AD0F8C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56B8-F62A-4F34-8876-875DFF650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6946-9D1E-45A1-B640-AA4D304A3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51F2-66E9-454F-B7F4-F59E1FF2E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5826-23E1-48D7-8230-B47C8478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21D2-579C-4EE3-A989-1FF68DB97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0057-E442-4B1C-AD7C-A9982B782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9EF61-17F0-45B9-BDE8-242FBB87D8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45720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mpilation, Linking, Execution of C/C++ programs: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ation and lin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28600" y="1371600"/>
          <a:ext cx="87631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371600"/>
                    <a:ext cx="87631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, Slid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666880" y="457200"/>
            <a:ext cx="9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 of slides for chapt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96080" y="6578640"/>
            <a:ext cx="14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, Slide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09480" y="4572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yout of C/C++ progra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648320" y="228600"/>
          <a:ext cx="4190760" cy="640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28600"/>
                    <a:ext cx="419076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7846920" y="657864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, Slid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09480" y="4572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module struc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514600" y="1600200"/>
          <a:ext cx="3809880" cy="37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1600200"/>
                    <a:ext cx="380988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7846920" y="657864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, Slid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914400"/>
            <a:ext cx="73915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a[10]={0,1,2,3,4,5,6,7,8,9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b[10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ic int k = 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(i = 0; i &lt; 10; i++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f("%d\n",a[i]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[i] = k*a[i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2286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ample C pro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846920" y="657864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, Slid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80880" y="2286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module of the sample C pro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85800" y="609480"/>
          <a:ext cx="8153280" cy="624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09480"/>
                    <a:ext cx="815328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7846920" y="657864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, Slid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80880" y="22860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ion of loa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240000" y="0"/>
          <a:ext cx="5904000" cy="65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0" y="0"/>
                    <a:ext cx="5904000" cy="65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846920" y="657864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, Slid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80880" y="2286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ing and memory mapp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04920" y="1143000"/>
          <a:ext cx="8534160" cy="506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143000"/>
                    <a:ext cx="8534160" cy="50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7846920" y="657864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, Slid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80880" y="228600"/>
            <a:ext cx="7391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ource progra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“placement” 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 dur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981080" y="-152280"/>
          <a:ext cx="6400800" cy="670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-152280"/>
                    <a:ext cx="6400800" cy="67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846920" y="657864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, Slid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80880" y="228600"/>
            <a:ext cx="9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memory allo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762120" y="762120"/>
          <a:ext cx="7924680" cy="57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762120"/>
                    <a:ext cx="7924680" cy="57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7846920" y="657864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, Slide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5T01:33:28Z</dcterms:created>
  <dc:creator>Dr. F. Franek</dc:creator>
  <dc:description/>
  <dc:language>en-US</dc:language>
  <cp:lastModifiedBy>Dr. F. Franek</cp:lastModifiedBy>
  <dcterms:modified xsi:type="dcterms:W3CDTF">2004-11-04T05:53:04Z</dcterms:modified>
  <cp:revision>27</cp:revision>
  <dc:subject/>
  <dc:title>No Slide Title</dc:title>
</cp:coreProperties>
</file>