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37E-92D5-4F21-B38E-3E6253CE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A27-F05F-414E-B473-367E67DB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97C-DA70-4A05-A2FD-DC33F7AB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897-634F-4C41-8513-EBE043F1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D96-6C6B-437D-AAD9-A08BF5A0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4D6-0AEE-4C18-9A43-2A19EBD4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9F7-5044-43DE-9FC2-EED73873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0DD-91FF-470C-AEAF-4A89F781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03B-6CD5-4213-9C38-3F40D423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1A4-2693-4296-A762-D8871F6B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D0D-7526-45B6-BBC3-ACA9A1B6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B3C-9270-4C66-A894-623EF2C5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E54D-A78A-4DB4-9E09-34AD10075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6_1_prog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-dimensional arrays and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3124080"/>
          <a:ext cx="830592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83059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33520" y="16002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 of array - an extension of the basic model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80880"/>
            <a:ext cx="792468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++ we can overload operator [] and create “arrays” with range checking: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chapter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3623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ng one-dimensional array via a poin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1752480"/>
          <a:ext cx="899172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9917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143000"/>
          <a:ext cx="8915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15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62120" y="838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34340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rray is “forgotten” (after passing it to a function), no index range run-time testing i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passed by reference, as the pointer representing it is passed by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5228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doit(int y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0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1]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={10,11,12,13,14,15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i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3880"/>
          <a:ext cx="883944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8839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219320" y="45720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displays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 1 12 13 14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one-dimensional arrays is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6*sizeof(int))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x == NULL)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0]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1] = 1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2] =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3] = 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4] = 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5] = 1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572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9718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 are char arrays terminated by NU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can be stored in a static array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 = "hello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ell as in a dynamic arra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30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is represented by a pointer and passed by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657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strcpy(char* dest,const char* s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*dest1 = d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(*dest++=*src++) != 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dest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79246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NULL could spell big troubles (see overflows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ocating memory for a string is the most common error (leading to erratic behaviou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ficient memory could spell troubles (overflows)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= malloc(5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38:50Z</dcterms:modified>
  <cp:revision>286</cp:revision>
  <dc:subject/>
  <dc:title>No Slide Title</dc:title>
</cp:coreProperties>
</file>