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8A4-6171-48B4-B038-3E1D8226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D45-908B-46DA-A049-C9D3572B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A82-F011-4C3B-B24E-6F648993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15E-D35F-4DAB-ADD9-C6BBDA0F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E61-0268-470E-A622-738DD78A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8DD-C4CA-4CDD-834E-DFB7FE82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F0F-8D28-4C34-8EB4-96D42148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2E0-4041-4AED-A3A6-6DD4CE84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354-B903-4CF5-8499-4EF82D5C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847-A7B7-43C9-8B09-AD0BD1E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18A-28BF-4A63-9467-07B8D172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1ED-22D3-44E6-8D89-22DE7947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CC67-AB3B-4BAE-8B50-41E30906E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1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2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es and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66680" y="685800"/>
          <a:ext cx="69343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934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5638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and i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2860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program uses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should have a corresponding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ven though it will be only called implicitly by the compiler when an exception is thrown during the construction of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constru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8380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6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002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ll work fine display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 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screen.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 i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ai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construc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har*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copied to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copy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onst C&amp;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inates,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as built in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is destructed us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e copy constructor (the memberwise copy constructor would have been used), the program would have crashed, as no “deep” copy of the salutation would have been provided, ye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still try to dealloc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perator   --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perator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85800"/>
            <a:ext cx="899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specifies how to perform assignments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=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wo objects (which is in a sense again a form of copying, from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n the absence of an explicit assignment,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mberwise 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erformed. The same problems may ensue as discussed for the missing copy constructor. However, a missing assignment is even more dangerous as it can lead to memory lea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C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do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 c1("hey Joe"), 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 //end d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30492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 to a dynamically created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using the default constructor and hence the valu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.salu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gnment is performed, due to the absence of an explicit assignment method in the definition of the clas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memberwise copy is performed and thu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estructed, none of them is “linked” to the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o the string is never deallocated and “leak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ults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that the copy is concerned with “forming the raw memory into an object” while the assignment must deal with a “well-constructed object’”, thus in essence the assignment must de-construct the object before it can do the cop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7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6858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88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acilitated by subclasses (derived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haracterized by overloading of names of methods and operato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 “data containers” can be either in static memory, on the heap, or on the stack. C++ objects can span all th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8120"/>
            <a:ext cx="80773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505320"/>
          <a:ext cx="777240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505320"/>
                    <a:ext cx="7772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0880"/>
            <a:ext cx="7391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ome global object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 ("hey")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1("good by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2133720"/>
          <a:ext cx="8001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0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088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program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486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uctor is missing, memory is lea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07732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3880"/>
                    <a:ext cx="8077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s and destructors are not inherited from the base class. The base constructor may be invoked implicitly or explicitly. The base destructor will be invoked implici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82880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3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590920"/>
            <a:ext cx="80769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will display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,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then (the main purpose of this illustration)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C() invo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ked. Notice the reverse order of destructors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 allocators/deallocator can be used in C++. On top of it, there are two new operators -- 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e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04920"/>
            <a:ext cx="80773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ils, it either use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_hand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hrows an exception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ad_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volved in object creatio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(..) { .... } //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tr = new X(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3680"/>
            <a:ext cx="830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ment syntax of the operato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 = new(1,2)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destructors cannot be called explicitly, a placemen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have a corresponding “placement”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ed only when construction fails midway)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oid operator delete(void* p,int a1,int a2){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of objects must be cre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default constructors on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04920" y="26668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5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057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to be dealloc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 8_4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429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guidelines to make sure that the process memory manager does not get corrup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}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47:18Z</dcterms:modified>
  <cp:revision>383</cp:revision>
  <dc:subject/>
  <dc:title>No Slide Title</dc:title>
</cp:coreProperties>
</file>