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7F24-E8EF-4F61-8DA8-4A5BE9A23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D08E-60F7-402F-9C8A-4983FFE4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BB9A-CEBA-4062-A9C8-E3DF775DE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C4D9-5AE0-41D3-AC05-3DB79FCC4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E172-93BE-4C8E-8325-283F1527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F32B-108D-4854-9FFD-779C383C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3CA9-EF43-4D33-A895-71060EF2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9C70-60F9-433F-936C-BF164059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FB11-87C5-456C-8C22-A172C586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A34C-A6CB-40F6-8974-E4DB11F2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75EE-9331-47FF-BDAE-3952FA0A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5B08-2E61-4034-AD83-AC3805C2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3B35-DCCF-47C2-B951-A8FC3EF82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4572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pilation, Linking, Execution of C/C++ programs: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ation and li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28600" y="1371600"/>
          <a:ext cx="87631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87631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666880" y="45720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slides for chapt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96080" y="6578640"/>
            <a:ext cx="14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457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yout of C/C++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648320" y="228600"/>
          <a:ext cx="419076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8600"/>
                    <a:ext cx="41907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7846920" y="6578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9480" y="457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modul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514600" y="1600200"/>
          <a:ext cx="380988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600200"/>
                    <a:ext cx="380988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7846920" y="6578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914400"/>
            <a:ext cx="7391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a[10]={0,1,2,3,4,5,6,7,8,9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b[1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 int k = 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 = 0; i &lt; 10; i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"%d\n",a[i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[i] = k*a[i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2286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ample C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846920" y="6578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2286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module of the sample C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609480"/>
          <a:ext cx="8153280" cy="624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815328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7846920" y="6578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2286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on of loa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240000" y="0"/>
          <a:ext cx="5904000" cy="65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0" y="0"/>
                    <a:ext cx="590400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846920" y="6578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2286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ing and memory mapp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04920" y="1143000"/>
          <a:ext cx="8534160" cy="506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853416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7846920" y="6578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22860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ource progra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“placement”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dur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981080" y="-152280"/>
          <a:ext cx="6400800" cy="67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-152280"/>
                    <a:ext cx="6400800" cy="67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846920" y="6578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22860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memory allo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762120" y="762120"/>
          <a:ext cx="7924680" cy="57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762120"/>
                    <a:ext cx="792468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846920" y="6578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33:28Z</dcterms:created>
  <dc:creator>Dr. F. Franek</dc:creator>
  <dc:description/>
  <dc:language>en-US</dc:language>
  <cp:lastModifiedBy>Dr. F. Franek</cp:lastModifiedBy>
  <dcterms:modified xsi:type="dcterms:W3CDTF">2004-11-04T05:53:04Z</dcterms:modified>
  <cp:revision>27</cp:revision>
  <dc:subject/>
  <dc:title>No Slide Title</dc:title>
</cp:coreProperties>
</file>