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10F1-95B5-4852-9532-7795C355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E640-5CB2-4C67-A12C-094E0CA3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2071-D9B9-4FFD-A5AF-6C2422EC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18D6-E375-493F-91B4-73D1DD86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E3FD-075B-43DC-80E9-72A0657B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C32C-FEBF-4114-BE29-64BA11E4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8B25-71C4-4191-97F3-0B7E59D9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5AAA-6347-4B0E-92B9-81838105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3B7B-6FB3-4A35-83D9-902A3EFA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A1EE-4FB7-4DC1-9BBB-A99CA77D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FF6E-1504-4294-8785-65E952B9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0902-4FB3-4E8C-AB31-47AA6338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80CC-D8E1-482C-94DF-485B674D5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ynamic allocation and deallocation of mem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1143000"/>
          <a:ext cx="84582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84582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838080"/>
            <a:ext cx="85341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mory manag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imple “accounting” of what process owns what part(s) of the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making an entry in the “accounting book” that this segment is given to this process for kee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mory deal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entry that this segment is not needed by this process and hence “fre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perating system process manager usually keeps track of allocated blocks in a data structure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nary hea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which each node is labeled by a label that is smaller than labels of all its descenda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Its purpose is to facilitate fast and efficient searching for a suitable free b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eap is sometimes referred to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 he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e st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152280"/>
            <a:ext cx="876312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cess memory manager usually keeps a dynamic list of free seg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f the implications is that every time your program requests more memory, the process memory manager has to search through the list to find a suitable segment; if none is found, more memory must be requested from the operating system memory manager that must search the system heap for a suitable block and when delivered to the process memory manager, a suitable segment must be carved out from the freshly allocated b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me delay cannot be determined. Thus, if a program does a significant number of allocations and deallocations, the unpredictable delays caused by these may affect the program's perform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issues must be considered for real-time software systems and for all programs where performance is essential. We will look at these issues when we discuss the concept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ocation from are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533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mory manager in C programs is engaged through various interfaces (standard func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514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ze of the allocated segment is at leas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contents are arbitrar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52388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*malloc(size_t 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5053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*calloc(size_t nelem,size_t el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4197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ze of the allocated segment is at leas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lem*el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contents are clear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54100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*realloc(void* ptr,size_t 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53352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reallocated segment can be extended, it is done so, otherwise a new segment is created, the contentrs of the old segment are copied to the new one, and the old segment is dealloc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less us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leads to dangling pointers! extending node 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14400" y="3124080"/>
          <a:ext cx="731520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124080"/>
                    <a:ext cx="73152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80880" y="1981080"/>
          <a:ext cx="792504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79250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80880" y="7621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on was possible, all is fi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7621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on was not possible, reallocation was necessayr, right child of node a is dangl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28600" y="1828800"/>
          <a:ext cx="8763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8763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3808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o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99072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free(void* p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28195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4-11-04T05:47:38Z</dcterms:modified>
  <cp:revision>173</cp:revision>
  <dc:subject/>
  <dc:title>No Slide Title</dc:title>
</cp:coreProperties>
</file>