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AFE-F48C-4C48-9293-FE626135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545-D62A-485A-B68A-A96C6EF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E43-A7CB-43DA-8C20-62A9F9CE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D9B-3B78-42FB-B967-46A4E342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E2D-D0A4-4870-B2B6-DCE81851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C34-1C95-44B0-8543-526C925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4E2-5E42-468C-BF23-7F0DECD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0CE-BC67-44F8-AE55-DD2EC215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74A-F596-4F83-A23F-0DFF2225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A35-D6CA-4065-A59D-A6755DF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C01-E44C-4394-B638-0C547804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86C-D4AB-4D37-A739-23DE1691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2111-5266-4DAD-9769-27764BE97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6_1_prog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-dimensional arrays and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3124080"/>
          <a:ext cx="8305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305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1600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array - an extension of the basic model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880"/>
            <a:ext cx="792468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++ we can overload operator [] and create “arrays” with range checking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chapter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362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ng one-dimensional array via a poi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752480"/>
          <a:ext cx="8991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91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8915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15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21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34340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rray is “forgotten” (after passing it to a function), no index range run-time testing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passed by reference, as the pointer representing it is passed by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28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oit(int y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0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1]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={10,11,12,13,14,1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i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3880"/>
          <a:ext cx="88394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83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45720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display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1 12 13 14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one-dimensional arrays is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6*sizeof(int)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x == NULL)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0]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1] = 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2]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3] = 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4] = 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5] = 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re char arrays terminated by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can be stored in a static arra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in a dynamic arra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30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is represented by a pointer and passed by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657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strcpy(char* dest,const char* 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*dest1 = d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(*dest++=*src++) !=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des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79246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NULL could spell big troubles (see overflow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ocating memory for a string is the most common error (leading to erratic behaviou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memory could spell troubles (overflows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malloc(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38:50Z</dcterms:modified>
  <cp:revision>286</cp:revision>
  <dc:subject/>
  <dc:title>No Slide Title</dc:title>
</cp:coreProperties>
</file>