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6CE4-E607-4DFC-BED3-4911575B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0331-B019-4D02-AF34-5796B91D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0893-51FE-48A6-B51D-FF10D4DAE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1F57-38FF-4C1B-ADE5-E2306FA4C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1B58-B831-43D5-B48A-61F84B75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8F70-D11C-4375-AB7A-C020EF56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3E4F-D729-4C92-A206-A798D9E7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F508-5BDB-45D1-8337-989252D3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935D-0AB8-4EA0-9359-6D78C489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3E4B-F8ED-48D7-8B1D-47EC85DF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6F7E-8ABC-428F-9974-AF5C2FC7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9701-2FA8-4156-AFC2-6FB72D59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3F73-EA97-47CB-A153-9CF509929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lti-dimensional arr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219320"/>
            <a:ext cx="9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x[3][4] = {0,1,2,3,10,11,12,13,20,21,22,23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09680" y="2057400"/>
          <a:ext cx="403884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057400"/>
                    <a:ext cx="40388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752480" y="5334120"/>
            <a:ext cx="9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ualization of a 2-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20120" y="65833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76212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lides for 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304920"/>
            <a:ext cx="92962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x[3][4]={0,1,2,3,10,11,12,13,20,21,22,23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, j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 = 0; i &lt; 3; 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j = 0; j &lt; 4; j++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%2d ",x[i][j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char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char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j = 0; j &lt; 4; j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 = 0; i &lt; 3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%2d ",x[i][j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char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04920"/>
            <a:ext cx="9296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  1  2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 11 12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0 21 22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 10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 11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 12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 13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04920" y="2971800"/>
          <a:ext cx="8381880" cy="29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71800"/>
                    <a:ext cx="838188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2438280" y="6172200"/>
            <a:ext cx="9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w-major storing form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67652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[i][j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ranslated to an indirection expressio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(x+i*n+j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row siz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For instance,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[0][0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ranslated to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(x+0*4+0) = *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hence the item with the value 0 is being accessed, 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[1][2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ranslated to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(x+1*4+2)= *(x+6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hence the item with the value 12 is being acc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, a 2-dimensional array cannot be viewed as a pointer with a body attached as in 1-dimensional case. It is essential to know the row size for index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an be generaliz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-533520" y="914400"/>
          <a:ext cx="9448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914400"/>
                    <a:ext cx="9448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14400" y="380880"/>
          <a:ext cx="73915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80880"/>
                    <a:ext cx="73915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-533520" y="914400"/>
          <a:ext cx="899172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914400"/>
                    <a:ext cx="89917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533520"/>
            <a:ext cx="883944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[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][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]...[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]=*(x + 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..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+ 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..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+ ..+ 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-2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-1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+ 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-1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+ 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s the size (limit) of th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 index,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=2..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dynamic multi-dimensional arrays we must “fool” the index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066680" y="2743200"/>
          <a:ext cx="670572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670572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990720"/>
            <a:ext cx="883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nt**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 = malloc(3*sizeof(int*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f (p == NULL) error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or(i = 0; i &lt; 3; i++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[i]= malloc(4*sizeof(in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/* let us put in values as sample accessing of the array items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a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or(i = 0; i &lt; 3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or(j = 0; j &lt; 4; j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[i][j] = a++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33:28Z</dcterms:created>
  <dc:creator>Dr. F. Franek</dc:creator>
  <dc:description/>
  <dc:language>en-US</dc:language>
  <cp:lastModifiedBy>Dr. F. Franek</cp:lastModifiedBy>
  <dcterms:modified xsi:type="dcterms:W3CDTF">2004-11-04T05:54:10Z</dcterms:modified>
  <cp:revision>300</cp:revision>
  <dc:subject/>
  <dc:title>No Slide Title</dc:title>
</cp:coreProperties>
</file>