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F88-22EA-454E-BAC2-5D27E466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5EA-F542-4B8D-A79E-52DFA23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A38-B20E-4DAC-A9C4-EA6BBA98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844-9A5B-4BE0-A3D4-71935525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664-D8B6-4CD7-B435-AC0D4CB2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B36-3B19-4E96-94E2-0BDB0DE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26A-D327-4CF7-8F6E-E39F6B78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11C-0326-44C4-A735-D8AA0AC9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EA2-FE57-4BA7-91BE-9E63340B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ECD-FA6B-4093-8CFA-53E0E2C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32C-714D-49DD-8C78-ADB3BED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587-FD78-468E-A9CA-9C18D545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2B04-181A-4362-BE1C-AF687D14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1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2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es and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685800"/>
          <a:ext cx="6934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934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638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and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program uses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should have a corresponding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though it will be only called implicitly by the compiler when an exception is thrown during the construction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6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l work fine display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 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screen.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construc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har*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copied to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onst C&amp;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inates,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as built in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is destructed us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py constructor (the memberwise copy constructor would have been used), the program would have crashed, as no “deep” copy of the salutation would have been provided, ye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still try to dealloc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perator   --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perator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8580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pecifies how to perform assignments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=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wo objects (which is in a sense again a form of copying, from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the absence of an explicit assignment,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wise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erformed. The same problems may ensue as discussed for the missing copy constructor. However, a missing assignment is even more dangerous as it can lead to memory lea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do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 c1("hey Joe"), 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 //end d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049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to a dynamically created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using the default constructor and hence the valu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.salu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gnment is performed, due to the absence of an explicit assignment method in the definition of the clas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emberwise copy is performed and thu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structed, none of them is “linked” to the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the string is never deallocated and “leak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hat the copy is concerned with “forming the raw memory into an object” while the assignment must deal with a “well-constructed object’”, thus in essence the assignment must de-construct the object before it can do the cop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7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858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acilitated by subclasses (derived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aracterized by overloading of names of methods and operato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 “data containers” can be either in static memory, on the heap, or on the stack. C++ objects can span all th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8120"/>
            <a:ext cx="8077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505320"/>
          <a:ext cx="777240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7772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ome global objec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 ("hey")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1("good by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133720"/>
          <a:ext cx="800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progra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86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 is missing, memory is lea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07732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077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 and destructors are not inherited from the base class. The base constructor may be invoked implicitly or explicitly. The base destructor will be invoked implici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82880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3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90920"/>
            <a:ext cx="8076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will display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,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then (the main purpose of this illustration)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C() 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ked. Notice the reverse order of destructor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 allocators/deallocator can be used in C++. On top of it, there are two new operators -- 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e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04920"/>
            <a:ext cx="8077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ls, it either us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_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rows an exception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d_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olved in object creatio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(..) { .... } //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tr = new X(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368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 syntax of the operato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 = new(1,2)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destructors cannot be called explicitly, a placemen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have a corresponding “placement”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d only when construction fails midway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oid operator delete(void* p,int a1,int a2){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of objects must be cre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default constructors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04920" y="26668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5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to be dealloc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 8_4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429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guidelines to make sure that the process memory manager does not get corrup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}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47:18Z</dcterms:modified>
  <cp:revision>383</cp:revision>
  <dc:subject/>
  <dc:title>No Slide Title</dc:title>
</cp:coreProperties>
</file>