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791-BD88-46E8-9D16-946B67B6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518-34B5-4C30-B28D-B75EFF9B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D86-D52F-407F-BFC6-98061F81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6B3-119B-4E9A-9A31-230B2B31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680-D713-445E-B8AF-695D99D5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5C5-6235-46EA-BF91-109C7CD6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9BA-DC12-430D-B627-7B92690A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7FF-6707-4AA3-9271-0D600313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F9E-FD7C-458E-9C8C-977FC293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951-F778-482B-BF88-238275F7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7A8-752C-4B82-81FA-D870BDA6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5C4-91D4-49D4-A005-78E3BA8F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604F-C4A0-46ED-988E-B15848BB4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9_1_prog.html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cas.mcmaster.ca/~franek/books/membook-slides/ch9_5_prog.html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ked Data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371600"/>
            <a:ext cx="8458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ed data structures - versatile data structures to model complex real world situations and entities. List, stacks, trees, graphs etc. just to mention 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simple binary search tree for 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20040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9_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03848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time complexity to search for an item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 log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: Binary tree, left child has value less than the parent, the right child has value greater than the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compact the nodes with no space was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219320"/>
          <a:ext cx="80769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0769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2280" y="2133720"/>
            <a:ext cx="883944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n we cannot use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l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must have our custom-made access functions: analyze chapter9_5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3276720"/>
          <a:ext cx="8458200" cy="30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276720"/>
                    <a:ext cx="845820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lativ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685800"/>
          <a:ext cx="83818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381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590920" y="48769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286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142640" y="609480"/>
            <a:ext cx="33526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609480"/>
            <a:ext cx="16761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866920" y="2209680"/>
            <a:ext cx="16765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752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85440" y="213372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133720"/>
            <a:ext cx="5335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200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8006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first traversal will produce alphabetically ordered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 D E J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ure of “links” --  usually pointers, but any reference will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06668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2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82880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ferences are array indexes (arrays are modeled on memory!). This will work fine for a tree with up to 100 nodes. A natural way to serialize a bin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are linked data structures created on the heap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733920"/>
            <a:ext cx="845820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3 program that is a recursive descent parser for a list of characters separated by commas and builds a binary search tree on the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510552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, it is not very prac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ly, linked data structures are linked by pointers and are build on the h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04920"/>
            <a:ext cx="883944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-based linked data structures are “flexible”, which is mostly good, however it is bad for “moving” the structure elsewhere in memory, or “transmitting” it over a communication channel, or “recording” it to auxiliary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a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a contiguous segment of memory and all pointers (addresses) are relative to the beginning of that seg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ial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several contiguous segments of memory and all pointers (addresses) are relative to the beginning of that segment where the pointer is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compaction is the extreme form of serialization. A serialized structure can easily by “moved” in memory just by “moving” the whole segment(s), “transmitted” byte by byte over a communication channel, or “recorded” to auxiliary memory and later resto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45820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of serialization+allocation from arena: chapter9_4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447920"/>
            <a:ext cx="883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relativized” addresses are a pair of short integers, the first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gment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second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Let us now visualize the arena after each stage of the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“building”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276720"/>
          <a:ext cx="807732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80773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0"/>
          <a:ext cx="800100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00100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7200" y="3124080"/>
          <a:ext cx="8305920" cy="33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124080"/>
                    <a:ext cx="8305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124080"/>
            <a:ext cx="9144000" cy="3733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0"/>
          <a:ext cx="822960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22960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52280" y="3048120"/>
          <a:ext cx="86868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8120"/>
                    <a:ext cx="8686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371600"/>
          <a:ext cx="8610480" cy="36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1048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04920" y="380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is build, now we start the relativ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883908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9625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liberately designed the structure/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at it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12 bytes, but 3 bytes are wasted on pad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5334120"/>
          <a:ext cx="83822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4120"/>
                    <a:ext cx="8382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50:40Z</dcterms:modified>
  <cp:revision>414</cp:revision>
  <dc:subject/>
  <dc:title>No Slide Title</dc:title>
</cp:coreProperties>
</file>