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4ED-11AF-41D5-BF14-F547D299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4BB-3331-4DDC-8506-56147B45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350-FB37-429A-82FA-5F9E5F3E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14F-62C7-46AB-B889-63E92DB3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F1F-BBFF-4FC1-B15D-4D9AA5D8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84E-11F5-4751-9275-9742E23B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C5F-8371-491A-AD81-CFD1F16C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FEC-A77E-4ED9-A77F-7E6B7760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DCF-FFF6-4092-A8FF-5EC57CE2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E41-9BC1-462F-A36B-B723688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80E-0952-43D2-B387-B324C3F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C94-D2A9-415F-9050-5F9BD0C1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BE04-B33F-49ED-8540-A3B143B52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6_1_prog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-dimensional arrays and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3124080"/>
          <a:ext cx="83059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305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16002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array - an extension of the basic model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80880"/>
            <a:ext cx="792468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++ we can overload operator [] and create “arrays” with range checking: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chapter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3623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ng one-dimensional array via a poin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752480"/>
          <a:ext cx="89917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917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8915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15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21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34340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rray is “forgotten” (after passing it to a function), no index range run-time testing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passed by reference, as the pointer representing it is passed by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28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doit(int y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0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1]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={10,11,12,13,14,1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i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3880"/>
          <a:ext cx="88394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883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45720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displays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 1 12 13 14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one-dimensional arrays is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6*sizeof(int)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x == NULL)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0]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1] = 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2]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3] = 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4] = 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5] = 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57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9718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are char arrays terminated by NU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can be stored in a static array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 = "hell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ll as in a dynamic arra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30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is represented by a pointer and passed by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657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strcpy(char* dest,const char* s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*dest1 = d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(*dest++=*src++) !=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des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79246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NULL could spell big troubles (see overflows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ocating memory for a string is the most common error (leading to erratic behaviou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memory could spell troubles (overflows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malloc(5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38:50Z</dcterms:modified>
  <cp:revision>286</cp:revision>
  <dc:subject/>
  <dc:title>No Slide Title</dc:title>
</cp:coreProperties>
</file>