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F38-BB76-4E43-85AD-FC8B4783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9DE-3AD2-43F5-B18B-1504AE5C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AFA-A30A-4B5F-8B34-F215EFCF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C73-6E85-41EF-A774-F4AF011C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37F-5108-4143-A1D6-368535C0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B44-F200-4BAA-8AD4-D37C81DD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C73-05AF-478D-9A2D-646C48D2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112-92A3-4989-83F3-05796189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B1B-621D-4DB0-9B0D-F5B69C20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AC6-BAAE-4D42-882A-81ABD650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5D5-1E0E-448E-9726-22B96374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B1D-027E-4814-BEF9-0AE53E62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9090-5A1F-4268-85A3-6FA154E3B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-dimensional arr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2193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 = 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09680" y="2057400"/>
          <a:ext cx="40388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038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752480" y="53341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ization of a 2-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7621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04920"/>
            <a:ext cx="9296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=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929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 1  2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 11 12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 21 22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0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1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12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13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2971800"/>
          <a:ext cx="838188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3818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438280" y="617220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w-major storing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6765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][j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an indirection expressio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i*n+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ow siz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For instance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0]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0*4+0) = *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0 is being accessed,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1][2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1*4+2)= *(x+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12 is being acc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a 2-dimensional array cannot be viewed as a pointer with a body attached as in 1-dimensional case. It is essential to know the row size for index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generali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-533520" y="914400"/>
          <a:ext cx="9448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9448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380880"/>
          <a:ext cx="73915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7391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-533520" y="914400"/>
          <a:ext cx="89917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8991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533520"/>
            <a:ext cx="88394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...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=*(x 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..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s the size (limit) of th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index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=2..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ynamic multi-dimensional arrays we must “fool” the index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2743200"/>
          <a:ext cx="67057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67057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883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*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 = malloc(3*sizeof(int*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f (p == NULL) erro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= malloc(4*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/* let us put in values as sample accessing of the array item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j = 0; j &lt; 4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[j] = a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4:10Z</dcterms:modified>
  <cp:revision>300</cp:revision>
  <dc:subject/>
  <dc:title>No Slide Title</dc:title>
</cp:coreProperties>
</file>