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44F-3CC9-45C9-9304-FF3FE29C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18C0-8DC5-4E0E-9D87-E5D51C1B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FA1-B171-4F27-A263-55EE93C0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39DE-5A17-4430-B3DF-56954FFF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FE3-A8AD-4AC4-BD33-10572628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8AE4-A69C-48BB-97E6-BF4E87F1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AEC3-1374-4C99-BB4D-86D143F7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0AF3-9F6C-4DC7-A72F-5C0660DB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F865-AAFC-4516-B1E4-838BDE35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384-D469-4FCC-AF36-C4575D1F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936-01FD-4C67-851D-105B026E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A33-6066-45CC-B43E-EFBC691C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D60B-F704-4040-A30B-AC2F9C9B4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8_1_prog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8_2_prog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es and Obj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66680" y="685800"/>
          <a:ext cx="693432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85800"/>
                    <a:ext cx="69343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90720" y="5638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and it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22860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pass a pointer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has not been returned previously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e segments allocat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exclusive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pass a pointer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has not been returned previously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e segments allocat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exclusive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r program uses placement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t should have a corresponding placement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ven though it will be only called implicitly by the compiler when an exception is thrown during the construction of an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constru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83808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6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6002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ll work fine display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ey Jo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screen. The objec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ated i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ain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construc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(char*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be copied to the activation fram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the copy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(const C&amp;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rminates, the objec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- as built in the activation fram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- is destructed us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the copy constructor (the memberwise copy constructor would have been used), the program would have crashed, as no “deep” copy of the salutation would have been provided, ye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uld still try to dealloc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ment operator   ---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perator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685800"/>
            <a:ext cx="8991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specifies how to perform assignments of typ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1=o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two objects (which is in a sense again a form of copying, from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In the absence of an explicit assignment,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mberwise assig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erformed. The same problems may ensue as discussed for the missing copy constructor. However, a missing assignment is even more dangerous as it can lead to memory lea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C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 do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 c1("hey Joe"), c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=c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 //end d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30492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reated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.sal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s to a dynamically created str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"hey Joe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reated using the default constructor and hence the valu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2.salut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et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=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signment is performed, due to the absence of an explicit assignment method in the definition of the clas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memberwise copy is performed and thu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.sal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et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destructed, none of them is “linked” to the str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"hey Joe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o the string is never deallocated and “leak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fference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ults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 that the copy is concerned with “forming the raw memory into an object” while the assignment must deal with a “well-constructed object’”, thus in essence the assignment must de-construct the object before it can do the copy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571500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7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6858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80880"/>
            <a:ext cx="7391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acilitated by subclasses (derived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lymorph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haracterized by overloading of names of methods and operator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 “data containers” can be either in static memory, on the heap, or on the stack. C++ objects can span all th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048120"/>
            <a:ext cx="80773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hapter8_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09480" y="3505320"/>
          <a:ext cx="7772400" cy="30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505320"/>
                    <a:ext cx="77724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80880"/>
            <a:ext cx="7391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some global object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ample sample ("hey");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ample sample1("good by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520" y="2133720"/>
          <a:ext cx="8001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001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80880"/>
            <a:ext cx="8229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program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hapter8_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486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uctor is missing, memory is leak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523880"/>
          <a:ext cx="8077320" cy="358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23880"/>
                    <a:ext cx="8077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ors and destructors are not inherited from the base class. The base constructor may be invoked implicitly or explicitly. The base destructor will be invoked implici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828800"/>
            <a:ext cx="8229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3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590920"/>
            <a:ext cx="80769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 will display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ey,Jo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 then (the main purpose of this illustration)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C() invo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ked. Notice the reverse order of destructors ca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 allocators/deallocator can be used in C++. On top of it, there are two new operators -- alloca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[]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dealloca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[]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04920"/>
            <a:ext cx="80773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ils, it either use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_hand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throws an exception of typ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ad_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era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volved in object creation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X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(..) { .... } //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* p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tr = new X(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93680"/>
            <a:ext cx="8305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ment syntax of the operator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ne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X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* operator new(size_t s,int a1,int a2){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...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* ptr = new(1,2)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28600"/>
            <a:ext cx="8686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destructors cannot be called explicitly, a placemen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have a corresponding “placement”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ed only when construction fails midway)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ne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X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* operator new(size_t s,int a1,int a2){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...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}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oid operator delete(void* p,int a1,int a2){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...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 of objects must be created by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default constructors on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304920" y="266688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5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0574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have to be deallocated by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304920" y="129528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 8_4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34290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ew guidelines to make sure that the process memory manager does not get corrup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pass a pointer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has not been returned previously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e segments allocat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lloc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lloc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} using exclusive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5-10-18T04:47:18Z</dcterms:modified>
  <cp:revision>383</cp:revision>
  <dc:subject/>
  <dc:title>No Slide Title</dc:title>
</cp:coreProperties>
</file>