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03CC-F2DB-47A1-92B1-DD70B585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9BF0-0C42-4915-AF60-33845234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79E1-FE8E-4B7E-9029-023AEFAA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3FEF-66F2-4215-90F0-C994E8C2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8BCC-E574-4A2B-818D-25AF01D6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2457-922F-4114-AE3C-075A273A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0695-F325-4609-921D-CE5B9509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D7EA-D3D8-4B23-B76B-8BD17D0A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A952-95A6-4B24-8099-63EEDCD7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5663-F4E3-49F7-9901-EE108BAB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8F4B-922A-404C-A869-A8262F47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D6EF-FB0F-4E5E-BE32-F11688B4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6002-3886-4292-8B42-DC2950566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s.mcmaster.ca/~cs2sc3/slides/membook/ch9_1_prog.html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cas.mcmaster.ca/~franek/books/membook-slides/ch9_5_prog.html" TargetMode="External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nked Data Struc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371600"/>
            <a:ext cx="8458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ed data structures - versatile data structures to model complex real world situations and entities. List, stacks, trees, graphs etc. just to mention s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 simple binary search tree for charac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200400"/>
            <a:ext cx="84582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hapter9_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03848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time complexity to search for an item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 log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: Binary tree, left child has value less than the parent, the right child has value greater than the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772400" y="6583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compact the nodes with no space was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219320"/>
          <a:ext cx="807696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80769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52280" y="2133720"/>
            <a:ext cx="8839440" cy="82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n we cannot use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-&gt;lc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-&gt;r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e must have our custom-made access functions: analyze chapter9_5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3276720"/>
          <a:ext cx="8458200" cy="3055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3276720"/>
                    <a:ext cx="8458200" cy="30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772400" y="6583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relativ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685800"/>
          <a:ext cx="838188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3818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2590920" y="487692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2004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304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304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304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2286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142640" y="609480"/>
            <a:ext cx="335268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609480"/>
            <a:ext cx="167616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19051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62920" y="19051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48720" y="19051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18288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866920" y="2209680"/>
            <a:ext cx="16765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18288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18288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7524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85440" y="2133720"/>
            <a:ext cx="12193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2133720"/>
            <a:ext cx="5335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32004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2004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48720" y="1981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80060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first traversal will produce alphabetically ordered sequ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 D E J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ture of “links” --  usually pointers, but any reference will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066680"/>
            <a:ext cx="84582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9_2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82880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ferences are array indexes (arrays are modeled on memory!). This will work fine for a tree with up to 100 nodes. A natural way to serialize a binary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are linked data structures created on the heap on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733920"/>
            <a:ext cx="8458200" cy="1191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9_3 program that is a recursive descent parser for a list of characters separated by commas and builds a binary search tree on the st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5105520"/>
            <a:ext cx="8686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gh, it is not very pract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ommonly, linked data structures are linked by pointers and are build on the he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304920"/>
            <a:ext cx="883944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-based linked data structures are “flexible”, which is mostly good, however it is bad for “moving” the structure elsewhere in memory, or “transmitting” it over a communication channel, or “recording” it to auxiliary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say that a linked data structur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ac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it occupies a contiguous segment of memory and all pointers (addresses) are relative to the beginning of that seg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ial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say that a linked data structur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rializ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it occupies several contiguous segments of memory and all pointers (addresses) are relative to the beginning of that segment where the pointer is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compaction is the extreme form of serialization. A serialized structure can easily by “moved” in memory just by “moving” the whole segment(s), “transmitted” byte by byte over a communication channel, or “recorded” to auxiliary memory and later restor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04920"/>
            <a:ext cx="8458200" cy="82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ustration of serialization+allocation from arena: chapter9_4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447920"/>
            <a:ext cx="8839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relativized” addresses are a pair of short integers, the first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gment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second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ff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Let us now visualize the arena after each stage of the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“building”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3276720"/>
          <a:ext cx="8077320" cy="21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76720"/>
                    <a:ext cx="807732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590920"/>
            <a:ext cx="9144000" cy="4267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0"/>
          <a:ext cx="8001000" cy="20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8001000" cy="20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57200" y="3124080"/>
          <a:ext cx="8305920" cy="33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124080"/>
                    <a:ext cx="830592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3124080"/>
            <a:ext cx="9144000" cy="3733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0"/>
          <a:ext cx="8229600" cy="31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22960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52280" y="3048120"/>
          <a:ext cx="8686800" cy="38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048120"/>
                    <a:ext cx="86868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1371600"/>
          <a:ext cx="8610480" cy="36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610480" cy="36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04920" y="3808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e is build, now we start the relativizatio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0" y="0"/>
          <a:ext cx="8839080" cy="33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39080" cy="33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9625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eliberately designed the structure/cla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at it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12 bytes, but 3 bytes are wasted on pad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80880" y="5334120"/>
          <a:ext cx="83822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334120"/>
                    <a:ext cx="8382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5-10-18T04:50:40Z</dcterms:modified>
  <cp:revision>414</cp:revision>
  <dc:subject/>
  <dc:title>No Slide Title</dc:title>
</cp:coreProperties>
</file>