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C88-AB80-4C3E-AAA3-A5B05649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CE8-1729-4C21-80AC-9EE7FB8B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DE9-5594-468F-897F-BCF4D301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E2C-4320-4F8D-BB5C-0F091794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D59-1D13-4905-8937-2F04C103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9CC-6192-4606-AD73-EF65129D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F085-E7E9-4FC7-8C42-111E222E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AD5-2700-42B7-9A33-2E82F819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42EB-A192-4ABE-AB80-11F245A7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130-0FCB-4F9E-A6E9-0ECCD071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A37-47AF-4440-A6FD-1AFC4BA9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089-DCFD-4C8D-AFDE-1952DBC8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D132-19B2-4085-8EE2-A253EF9BE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lti-dimensional arr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21932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3][4] = {0,1,2,3,10,11,12,13,20,21,22,23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09680" y="2057400"/>
          <a:ext cx="40388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038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752480" y="533412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ization of a 2-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0120" y="6583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7621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04920"/>
            <a:ext cx="9296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3][4]={0,1,2,3,10,11,12,13,20,21,22,23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3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j = 0; j &lt; 4; j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2d ",x[i][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j = 0; j &lt; 4; j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3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2d ",x[i][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929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 1  2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 11 12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 21 22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10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11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12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13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4920" y="2971800"/>
          <a:ext cx="838188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838188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438280" y="617220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w-major storing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6765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i][j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an indirection expressio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i*n+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ow siz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For instance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0][0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0*4+0) = *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item with the value 0 is being accessed,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1][2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1*4+2)= *(x+6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item with the value 12 is being acc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a 2-dimensional array cannot be viewed as a pointer with a body attached as in 1-dimensional case. It is essential to know the row size for index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be generali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-533520" y="914400"/>
          <a:ext cx="9448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14400"/>
                    <a:ext cx="9448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380880"/>
          <a:ext cx="73915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880"/>
                    <a:ext cx="7391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-533520" y="914400"/>
          <a:ext cx="89917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14400"/>
                    <a:ext cx="89917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533520"/>
            <a:ext cx="88394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...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=*(x 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..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..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..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s the size (limit) of th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index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=2..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ynamic multi-dimensional arrays we must “fool” the index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6680" y="2743200"/>
          <a:ext cx="67057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67057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990720"/>
            <a:ext cx="883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**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 = malloc(3*sizeof(int*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f (p == NULL) erro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i = 0; i &lt; 3; 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[i]= malloc(4*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/* let us put in values as sample accessing of the array item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a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i = 0; i &lt; 3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j = 0; j &lt; 4; 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[i][j] = a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54:10Z</dcterms:modified>
  <cp:revision>300</cp:revision>
  <dc:subject/>
  <dc:title>No Slide Title</dc:title>
</cp:coreProperties>
</file>