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E96-D5C7-4404-A61B-488D89BC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84C-DEC2-46CC-A86D-C1C6A013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A1D-79C3-4E09-BE79-DA9CE909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54A-A0FB-4538-BC6D-5E0F7E45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48B-275E-4EEC-B44A-0D324176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1EC-B929-434A-B633-02657989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618-4339-494E-84B4-3668E699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61E-892A-45F2-B05C-FDA97611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AF0-7B90-4DE1-9914-CC1D86AE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F81-F1CA-4FFE-A987-38A36A40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25E-D83F-4D0B-B177-5D3D662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0D1-DDF7-429E-9F0E-17408E3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8B82-A8CE-4901-8B18-E24216CD6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ilation, Linking, Execution of C/C++ programs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and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371600"/>
          <a:ext cx="8763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6880" y="4572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578640"/>
            <a:ext cx="14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 of C/C++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228600"/>
          <a:ext cx="41907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4190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160020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[10]={0,1,2,3,4,5,6,7,8,9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k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 = 0; i &lt; 1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d\n",a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 = k*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of the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81532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0" y="0"/>
          <a:ext cx="5904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0"/>
                    <a:ext cx="590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and memory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143000"/>
          <a:ext cx="853416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3416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86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ource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“placement”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81080" y="-152280"/>
          <a:ext cx="64008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152280"/>
                    <a:ext cx="64008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286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762120"/>
          <a:ext cx="7924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924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3:04Z</dcterms:modified>
  <cp:revision>27</cp:revision>
  <dc:subject/>
  <dc:title>No Slide Title</dc:title>
</cp:coreProperties>
</file>