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9D00-118D-41C4-9E79-D71A3C9B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3A6-1641-4EA9-A8AF-67E95151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054-E98A-4CCA-B011-F5CE36F6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AD6-5B12-4167-B8F2-DD14AA29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7E7-3B43-421A-9B11-D66987D3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CCBC-289C-49F4-ACA6-6F3DE82E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8BF-1417-4AC4-9AB5-4511F182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F22-D7AC-4601-AC48-28018E83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5CD-41D4-46EE-9CB8-193039CD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686-1452-4342-905A-CC34E5E6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6E6C-4DEC-45D7-8774-3E04E9FE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75C-0970-4B2A-9908-409C6EC6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9F71-38BB-4CCA-8B3A-4A219636D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ynamic allocation and deallocation of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1143000"/>
          <a:ext cx="84582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84582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838080"/>
            <a:ext cx="85341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imple “accounting” of what process owns what part(s) of the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aking an entry in the “accounting book” that this segment is given to this process for kee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 deal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entry that this segment is not needed by this process and hence “fre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erating system process manager usually keeps track of allocated blocks in a data structu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nary hea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which each node is labeled by a label that is smaller than labels of all its descend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Its purpose is to facilitate fast and efficient searching for a suitable free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eap is sometimes referred to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he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e st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152280"/>
            <a:ext cx="876312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 memory manager usually keeps a dynamic list of free seg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the implications is that every time your program requests more memory, the process memory manager has to search through the list to find a suitable segment; if none is found, more memory must be requested from the operating system memory manager that must search the system heap for a suitable block and when delivered to the process memory manager, a suitable segment must be carved out from the freshly allocated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me delay cannot be determined. Thus, if a program does a significant number of allocations and deallocations, the unpredictable delays caused by these may affect the program's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ssues must be considered for real-time software systems and for all programs where performance is essential. We will look at these issues when we discuss the concep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ocation from are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mory manager in C programs is engaged through various interfaces (standard func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514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allocated segment is at leas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contents are arbitrar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5238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*malloc(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5053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*calloc(size_t nelem,size_t el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419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allocated segment is at leas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lem*el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contents are clear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410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*realloc(void* ptr,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53352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reallocated segment can be extended, it is done so, otherwise a new segment is created, the contentrs of the old segment are copied to the new one, and the old segment is dealloc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less us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leads to dangling pointers! extending node 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14400" y="3124080"/>
          <a:ext cx="73152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124080"/>
                    <a:ext cx="73152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1981080"/>
          <a:ext cx="792504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79250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80880" y="7621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was possible, all is fi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7621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was not possible, reallocation was necessayr, right child of node a is dangl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" y="1828800"/>
          <a:ext cx="8763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763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80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9907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free(void* p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28195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4-11-04T05:47:38Z</dcterms:modified>
  <cp:revision>173</cp:revision>
  <dc:subject/>
  <dc:title>No Slide Title</dc:title>
</cp:coreProperties>
</file>