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EB4-D337-4487-A502-67FF4D79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37C-AA52-41FE-9DC4-378D1011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55B-400A-46F0-8F31-5A79E3F4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A7B-1BC6-465C-8662-34D80311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811-5B1D-47D1-8081-2B5FB829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FF1-2C55-4BCF-9B92-59881B50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9FA1-74B0-4303-A32F-92CDF330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013-2F86-4927-A673-E06D471A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237-A5B7-4A2F-B72E-F5FAA742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FDD-3F44-4CE1-9C0C-ABAB8BDF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CC1-5EE8-4DF2-8C16-D358D0D8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7CC-5288-4669-B861-6EDDD8BC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23F6-7739-40F8-97CB-5204282AA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8_1_prog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8_2_prog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es and Ob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66680" y="685800"/>
          <a:ext cx="69343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69343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5638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and it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2860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r program uses placement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t should have a corresponding placement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ven though it will be only called implicitly by the compiler when an exception is thrown during the construction of a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constru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8380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6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6002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ll work fine display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y Jo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screen. The obje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d i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ai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construc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(char*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copied to the activation fram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 copy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(const C&amp;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inates, the obje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- as built in the activation fram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- is destructed us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he copy constructor (the memberwise copy constructor would have been used), the program would have crashed, as no “deep” copy of the salutation would have been provided, ye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 still try to dealloc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 operator   --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perator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85800"/>
            <a:ext cx="8991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specifies how to perform assignments of typ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1=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two objects (which is in a sense again a form of copying, from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In the absence of an explicit assignment,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mberwise 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erformed. The same problems may ensue as discussed for the missing copy constructor. However, a missing assignment is even more dangerous as it can lead to memory lea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C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do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 c1("hey Joe"), c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=c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 //end d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30492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reated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.sal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s to a dynamically created str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"hey Joe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reated using the default constructor and hence the valu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.salu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et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=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ignment is performed, due to the absence of an explicit assignment method in the definition of the clas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memberwise copy is performed and thu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.sal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et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destructed, none of them is “linked” to the str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"hey Joe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o the string is never deallocated and “leak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fference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ults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that the copy is concerned with “forming the raw memory into an object” while the assignment must deal with a “well-constructed object’”, thus in essence the assignment must de-construct the object before it can do the cop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71500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7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6858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880"/>
            <a:ext cx="7391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acilitated by subclasses (derived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haracterized by overloading of names of methods and operato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 “data containers” can be either in static memory, on the heap, or on the stack. C++ objects can span all th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48120"/>
            <a:ext cx="80773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8_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3505320"/>
          <a:ext cx="777240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505320"/>
                    <a:ext cx="7772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80880"/>
            <a:ext cx="7391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some global object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ample sample ("hey");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ample sample1("good by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2133720"/>
          <a:ext cx="8001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001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8088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program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8_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486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uctor is missing, memory is leak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523880"/>
          <a:ext cx="8077320" cy="35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23880"/>
                    <a:ext cx="8077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ors and destructors are not inherited from the base class. The base constructor may be invoked implicitly or explicitly. The base destructor will be invoked implici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82880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3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590920"/>
            <a:ext cx="80769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will display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y,Jo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then (the main purpose of this illustration)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C() invo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ked. Notice the reverse order of destructors ca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 allocators/deallocator can be used in C++. On top of it, there are two new operators -- alloc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[]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ealloc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[]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04920"/>
            <a:ext cx="80773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ils, it either use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_hand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throws an exception of typ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ad_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volved in object creation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(..) { .... } //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* p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tr = new X(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3680"/>
            <a:ext cx="8305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ment syntax of the operato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ne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* operator new(size_t s,int a1,int a2){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* ptr = new(1,2)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8600"/>
            <a:ext cx="8686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destructors cannot be called explicitly, a placemen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have a corresponding “placement”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ed only when construction fails midway)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ne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* operator new(size_t s,int a1,int a2){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}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oid operator delete(void* p,int a1,int a2){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of objects must be creat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default constructors on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304920" y="26668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5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057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ve to be deallocat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 8_4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4290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guidelines to make sure that the process memory manager does not get corrup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oc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}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47:18Z</dcterms:modified>
  <cp:revision>383</cp:revision>
  <dc:subject/>
  <dc:title>No Slide Title</dc:title>
</cp:coreProperties>
</file>