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4920-36BB-4BA5-848B-2DA02DBE2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CD6D-B033-4290-9512-7CDE120FD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5BED-CBB4-4A2A-AFC9-A624562E7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B346-2B84-468E-8793-D0FFCCAE2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2464-F356-4312-B61A-73BDFC95C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E2EF-F230-4623-A197-07BC75E41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DFC4-C14B-47D6-AB39-486BD5489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1548-0426-4E0C-B7D8-4DD41620F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CD68-1603-4BDC-9682-0D6CBCAE0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011D-53C6-4945-8185-F4632503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C3A1-0C4A-4604-93F9-7A9A58D8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7609-AD3C-457A-8C11-A92E1A2A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8FED0-9A3F-408A-89E2-0EAC3DF6E6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45720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mpilation, Linking, Execution of C/C++ programs: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ation and lin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28600" y="1371600"/>
          <a:ext cx="87631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371600"/>
                    <a:ext cx="87631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7848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, Slid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666880" y="457200"/>
            <a:ext cx="9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 of slides for chapt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96080" y="6578640"/>
            <a:ext cx="14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, Slide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09480" y="4572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yout of C/C++ progr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648320" y="228600"/>
          <a:ext cx="4190760" cy="64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8600"/>
                    <a:ext cx="419076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7846920" y="657864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, 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09480" y="4572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module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514600" y="1600200"/>
          <a:ext cx="380988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1600200"/>
                    <a:ext cx="380988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7846920" y="657864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, Slid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914400"/>
            <a:ext cx="73915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a[10]={0,1,2,3,4,5,6,7,8,9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b[10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ic int k = 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i = 0; i &lt; 10; i++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f("%d\n",a[i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[i] = k*a[i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2286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ample C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846920" y="657864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, Slid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880" y="2286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module of the sample C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85800" y="609480"/>
          <a:ext cx="8153280" cy="624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9480"/>
                    <a:ext cx="815328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7846920" y="657864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, Slid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22860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ion of loa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240000" y="0"/>
          <a:ext cx="5904000" cy="65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0" y="0"/>
                    <a:ext cx="590400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846920" y="657864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, Slid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80880" y="2286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ing and memory mapp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04920" y="1143000"/>
          <a:ext cx="8534160" cy="506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143000"/>
                    <a:ext cx="8534160" cy="50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7846920" y="657864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, Slid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0880" y="228600"/>
            <a:ext cx="739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ource progra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“placement” 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 dur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981080" y="-152280"/>
          <a:ext cx="6400800" cy="67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-152280"/>
                    <a:ext cx="6400800" cy="67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846920" y="657864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, 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80880" y="228600"/>
            <a:ext cx="9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memory allo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762120" y="762120"/>
          <a:ext cx="7924680" cy="57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762120"/>
                    <a:ext cx="7924680" cy="57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7846920" y="657864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, Slide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5T01:33:28Z</dcterms:created>
  <dc:creator>Dr. F. Franek</dc:creator>
  <dc:description/>
  <dc:language>en-US</dc:language>
  <cp:lastModifiedBy>Dr. F. Franek</cp:lastModifiedBy>
  <dcterms:modified xsi:type="dcterms:W3CDTF">2004-11-04T05:53:04Z</dcterms:modified>
  <cp:revision>27</cp:revision>
  <dc:subject/>
  <dc:title>No Slide Title</dc:title>
</cp:coreProperties>
</file>