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3C5-5F9D-4F9E-9E37-CF24274E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46C-048E-4B19-875A-16ED7F1F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41F-627F-492E-9F96-E769EDF7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1B7-EAA1-4EA8-AA68-95ABE9A3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3776-E2F9-4C99-8D69-5F890B96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7AD-BA4D-4C7B-AC38-A21B5E26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F46-5DA0-4E02-A7EA-6E34033B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8D6-3F5D-4F98-9086-82088D35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F7D-E555-4F6E-BC06-F1D38341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0B3-82AC-4382-8871-61387378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200-91CD-4919-A764-48F33C9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A9E-BBC3-4516-86E6-3C3447A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1432-15CF-443A-88FB-67C40D8F6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ynamic allocation and deallocation of memo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1143000"/>
          <a:ext cx="84582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4582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38080"/>
            <a:ext cx="8534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mple “accounting” of what process owns what part(s) of the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aking an entry in the “accounting book” that this segment is given to this process for ke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y de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entry that this segment is not needed by this process and hence “fre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ng system process manager usually keeps track of allocated blocks in a data structu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hea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which each node is labeled by a label that is smaller than labels of all its descend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Its purpose is to facilitate fast and efficient searching for a suitable fre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eap is sometimes 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he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e 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76312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memory manager usually keeps a dynamic list of free se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the implications is that every time your program requests more memory, the process memory manager has to search through the list to find a suitable segment; if none is found, more memory must be requested from the operating system memory manager that must search the system heap for a suitable block and when delivered to the process memory manager, a suitable segment must be carved out from the freshly allocated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delay cannot be determined. Thus, if a program does a significant number of allocations and deallocations, the unpredictable delays caused by these may affect the program's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ssues must be considered for real-time software systems and for all programs where performance is essential. We will look at these issues when we discuss the concep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cation from are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mory manager in C programs is engaged through various interfaces (standard func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arbitra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053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calloc(size_t nelem,size_t el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419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allocated segment is at leas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nelem*el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contents are clea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410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*realloc(void* ptr,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53352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eallocated segment can be extended, it is done so, otherwise a new segment is created, the contentrs of the old segment are copied to the new one, and the old segment is deallo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less us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lloc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leads to dangling pointers! extending node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3124080"/>
          <a:ext cx="7315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315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981080"/>
          <a:ext cx="79250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79250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880" y="7621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possible, all is f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was not possible, reallocation was necessayr, right child of node a is dangl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1828800"/>
          <a:ext cx="8763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8763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80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990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void free(void*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81952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47:38Z</dcterms:modified>
  <cp:revision>173</cp:revision>
  <dc:subject/>
  <dc:title>No Slide Title</dc:title>
</cp:coreProperties>
</file>