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584-617F-44E5-90EC-B443A1C5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10B-F3C7-4C97-89D8-D7F2A5CD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5BB-A0E7-46E8-A7AE-0C1260B0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CCE-6D58-4310-9264-E33FA4D6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0CE-C389-4F76-B5B0-9D7FB4B1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9A5-F64B-4C12-B8E3-542A024F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5AE-C86C-4073-8371-3FF54688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E1A-FA8F-45AC-8AE0-ACAB55DE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A1E-8545-4413-8D04-D4A63C97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11D-EF88-4720-818F-D448732E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FB7-F3D0-478D-BCBD-8C79FC9B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87C-05BA-4157-A34F-EBB79D61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AE48-538D-4079-ACAC-CE153FFC4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as.mcmaster.ca/~cs2sc3/slides/membook/ch6_1_prog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ne-dimensional arrays and str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3124080"/>
          <a:ext cx="830592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4080"/>
                    <a:ext cx="83059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33520" y="16002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ept of array - an extension of the basic model of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0120" y="65833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380880"/>
            <a:ext cx="7924680" cy="825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++ we can overload operator [] and create “arrays” with range checking: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chapter6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3623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ing one-dimensional array via a poin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1752480"/>
          <a:ext cx="8991720" cy="30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991720" cy="30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143000"/>
          <a:ext cx="8915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8915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62120" y="838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tion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6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34340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rray is “forgotten” (after passing it to a function), no index range run-time testing i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s passed by reference, as the pointer representing it is passed by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52280"/>
            <a:ext cx="8686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doit(int y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[0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[1]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[6]={10,11,12,13,14,15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i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6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",x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523880"/>
          <a:ext cx="883944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883944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219320" y="45720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 displays: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 1 12 13 14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304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one-dimensional arrays is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06668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*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malloc(6*sizeof(int))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x == NULL)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0]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1] = 1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2] = 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3] = 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4] = 1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[5] = 1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572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(i = 0; i &lt; 6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",x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char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97180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 are char arrays terminated by NU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\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string can be stored in a static array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x[30] = "hello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x[3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x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ell as in a dynamic arra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malloc(30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x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string is represented by a pointer and passed by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657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strcpy(char* dest,const char* sr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*dest1 = de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((*dest++=*src++) != 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dest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6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79246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NULL could spell big troubles (see overflows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ocating memory for a string is the most common error (leading to erratic behaviou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*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p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fficient memory could spell troubles (overflows)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 = malloc(5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cpy(p,"hell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5-10-18T04:38:50Z</dcterms:modified>
  <cp:revision>286</cp:revision>
  <dc:subject/>
  <dc:title>No Slide Title</dc:title>
</cp:coreProperties>
</file>