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9F0-BF37-482C-9E05-1DF50745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059-A250-450E-97B0-F40387BD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D1E7-4AC7-4D7D-98BA-86388CE8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CC2-ACD7-4FB1-B49D-CFC45F20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395-5839-4642-8D3E-4B6857D0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80A-18DC-4576-87AC-F4DAE22C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D0E-880B-4B7C-8205-5D86F243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47FC-5209-4C76-B137-AB54405D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F15-C437-4323-AE9C-5CC91F9A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43E-B990-4EDC-AA7B-CFE1485F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E62B-EADB-4F01-911D-CA4DD4FF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F19-A9D4-4EA5-8D9A-09C40056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EDF6-3923-4389-A422-1460DBA60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lti-dimensional arr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21932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3][4] = {0,1,2,3,10,11,12,13,20,21,22,23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09680" y="2057400"/>
          <a:ext cx="40388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038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752480" y="533412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ization of a 2-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0120" y="6583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7621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04920"/>
            <a:ext cx="9296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3][4]={0,1,2,3,10,11,12,13,20,21,22,23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3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 = 0; j &lt; 4; j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2d ",x[i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j = 0; j &lt; 4; j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3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2d ",x[i][j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929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 1  2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 11 12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 21 22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10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11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 12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 13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2971800"/>
          <a:ext cx="838188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838188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438280" y="6172200"/>
            <a:ext cx="9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w-major storing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67652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i][j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an indirection expressio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i*n+j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ow size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For instance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0][0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0*4+0) = *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item with the value 0 is being accessed,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1][2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anslated to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(x+1*4+2)= *(x+6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nce the item with the value 12 is being acc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a 2-dimensional array cannot be viewed as a pointer with a body attached as in 1-dimensional case. It is essential to know the row size for index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be generali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-533520" y="914400"/>
          <a:ext cx="9448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14400"/>
                    <a:ext cx="9448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380880"/>
          <a:ext cx="73915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7391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-533520" y="914400"/>
          <a:ext cx="89917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914400"/>
                    <a:ext cx="89917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533520"/>
            <a:ext cx="88394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x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...[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]=*(x 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..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..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..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2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-1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*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+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L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s the size (limit) of th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 index,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=2..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ynamic multi-dimensional arrays we must “fool” the index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6680" y="2743200"/>
          <a:ext cx="67057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67057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7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990720"/>
            <a:ext cx="883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**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 = malloc(3*sizeof(int*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f (p == NULL) erro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i = 0; i &lt; 3; i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[i]= malloc(4*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/* let us put in values as sample accessing of the array item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a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i = 0; i &lt; 3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or(j = 0; j &lt; 4; 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[i][j] = a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54:10Z</dcterms:modified>
  <cp:revision>300</cp:revision>
  <dc:subject/>
  <dc:title>No Slide Title</dc:title>
</cp:coreProperties>
</file>