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B3D-E0FC-49E3-A0D2-7414E4FE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827-689A-427D-A0E2-B86CA0A8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9B3-57C1-4D14-AA2A-F37CEE6E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BCB-B614-473A-B6CE-A7C43ABE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391-E0A6-4EB4-965E-E4B69678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BED-D19C-412C-8CED-3CE2AA29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1AA-AD99-45DA-AFB8-0502C50C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9E5-B4E2-4845-B071-BBE65C2B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6C2-3CAC-41BC-BA89-5D45561F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B28-D022-434C-8E77-00F326BC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DCF-DF7F-4DE1-B7E6-D25D0952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7B09-C916-414F-A980-E3145533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4BA5-4D49-4EBD-AF56-4854B4D81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8_1_prog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8_2_prog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asses and Ob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66680" y="685800"/>
          <a:ext cx="69343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85800"/>
                    <a:ext cx="69343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90720" y="5638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and it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228600"/>
            <a:ext cx="8686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r program uses placement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t should have a corresponding placement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ven though it will be only called implicitly by the compiler when an exception is thrown during the construction of an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constru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8380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6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6002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ll work fine display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y Jo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screen. The objec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ated i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ain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construc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(char*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be copied to the activation fram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 copy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(const C&amp;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rminates, the objec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- as built in the activation fram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o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- is destructed us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the copy constructor (the memberwise copy constructor would have been used), the program would have crashed, as no “deep” copy of the salutation would have been provided, ye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uld still try to dealloc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 operator   ---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perator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85800"/>
            <a:ext cx="8991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specifies how to perform assignments of typ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1=o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two objects (which is in a sense again a form of copying, from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o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In the absence of an explicit assignment,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mberwise ass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erformed. The same problems may ensue as discussed for the missing copy constructor. However, a missing assignment is even more dangerous as it can lead to memory lea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C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 do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 c1("hey Joe"), c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=c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 //end d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30492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reated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.sal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s to a dynamically created str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"hey Joe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reated using the default constructor and hence the valu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.salut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et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=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ignment is performed, due to the absence of an explicit assignment method in the definition of the clas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memberwise copy is performed and thu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.salu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et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destructed, none of them is “linked” to the string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"hey Joe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o the string is never deallocated and “leak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fference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ults 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that the copy is concerned with “forming the raw memory into an object” while the assignment must deal with a “well-constructed object’”, thus in essence the assignment must de-construct the object before it can do the copy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71500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7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96080" y="6583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6858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80880"/>
            <a:ext cx="7391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facilitated by subclasses (derived cla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haracterized by overloading of names of methods and operato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 “data containers” can be either in static memory, on the heap, or on the stack. C++ objects can span all th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048120"/>
            <a:ext cx="80773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8_1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09480" y="3505320"/>
          <a:ext cx="777240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505320"/>
                    <a:ext cx="77724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80880"/>
            <a:ext cx="7391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some global object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ample sample ("hey");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ample sample1("good by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2133720"/>
          <a:ext cx="8001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001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80880"/>
            <a:ext cx="8229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program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chapter8_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5486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uctor is missing, memory is leak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523880"/>
          <a:ext cx="8077320" cy="358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523880"/>
                    <a:ext cx="8077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ors and destructors are not inherited from the base class. The base constructor may be invoked implicitly or explicitly. The base destructor will be invoked implici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828800"/>
            <a:ext cx="8229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3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590920"/>
            <a:ext cx="80769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will display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ey,Jo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 then (the main purpose of this illustration)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C() invo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~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ked. Notice the reverse order of destructors ca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 allocators/deallocator can be used in C++. On top of it, there are two new operators -- alloc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[]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ealloc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[]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04920"/>
            <a:ext cx="80773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ils, it either uses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_hand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throws an exception of typ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ad_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erator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volved in object creation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(..) { .... } // 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* p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tr = new X(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3680"/>
            <a:ext cx="8305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ment syntax of the operator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ne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* operator new(size_t s,int a1,int a2){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 main 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* ptr = new(1,2)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28600"/>
            <a:ext cx="8686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destructors cannot be called explicitly, a placemen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have a corresponding “placement”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ed only when construction fails midway)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ne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lass X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* operator new(size_t s,int a1,int a2){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}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void operator delete(void* p,int a1,int a2){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...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};//end clas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 of objects must be creat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w[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default constructors on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304920" y="26668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8_5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0574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have to be deallocated by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elete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304920" y="1295280"/>
            <a:ext cx="83055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chapter 8_4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4290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ew guidelines to make sure that the process memory manager does not get corrup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pass a pointer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has not been returned previously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e segments allocat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loc(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} using exclusive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e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47:18Z</dcterms:modified>
  <cp:revision>383</cp:revision>
  <dc:subject/>
  <dc:title>No Slide Title</dc:title>
</cp:coreProperties>
</file>