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DC6D-A72E-4051-82B5-07D2B5641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ADA1-0BA1-4551-8574-1E45A0642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52DB-AE44-4E2C-B3BB-91F25878E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7B9F-58DF-48FA-BD65-FB04A9BAA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6FE0-EE01-430F-9DFB-A9F14D48A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6FAF-2270-49EA-87F2-606CC9579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9B1C-710B-4FA8-A5FD-A3C4F511D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273E-1A21-456B-B3D3-6672FD1B4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6044-E0AC-424F-B568-2C4C73408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F0D1-C6AC-4B3C-A6BD-CB807A37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AAC8-E582-4C9C-AC3D-8B46FC43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64EB-032C-4EA4-A0FD-CF899B78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15567-5866-43C5-8CA9-FC6C4E3BCE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as.mcmaster.ca/~cs2sc3/slides/membook/ch9_1_prog.html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hyperlink" Target="http://www.cas.mcmaster.ca/~franek/books/membook-slides/ch9_5_prog.html" TargetMode="External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4572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inked Data Structu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, Slid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371600"/>
            <a:ext cx="84582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ked data structures - versatile data structures to model complex real world situations and entities. List, stacks, trees, graphs etc. just to mention s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a simple binary search tree for charact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3200400"/>
            <a:ext cx="845820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chapter9_1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4038480"/>
            <a:ext cx="8458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time complexity to search for an item i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n log 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ganization: Binary tree, left child has value less than the parent, the right child has value greater than the par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7772400" y="6583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, Slide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2860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compact the nodes with no space wast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04920" y="1219320"/>
          <a:ext cx="8076960" cy="51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19320"/>
                    <a:ext cx="807696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152280" y="2133720"/>
            <a:ext cx="8839440" cy="825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then we cannot use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-&gt;lc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-&gt;r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e must have our custom-made access functions: analyze chapter9_5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80880" y="3276720"/>
          <a:ext cx="8458200" cy="3055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880" y="3276720"/>
                    <a:ext cx="8458200" cy="30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772400" y="6583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, Slide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22860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relativiz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28600" y="685800"/>
          <a:ext cx="838188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85800"/>
                    <a:ext cx="838188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2590920" y="4876920"/>
            <a:ext cx="9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 of slides for chapter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, 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86400" y="32767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172200" y="32767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0" y="32767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62720" y="320040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J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3049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14800" y="3049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800600" y="3049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05320" y="22860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142640" y="609480"/>
            <a:ext cx="335268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05520" y="609480"/>
            <a:ext cx="167616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19051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162920" y="19051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848720" y="19051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553080" y="18288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5866920" y="2209680"/>
            <a:ext cx="1676520" cy="106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1828800"/>
            <a:ext cx="685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1828800"/>
            <a:ext cx="685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09680" y="1828800"/>
            <a:ext cx="685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17524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685440" y="2133720"/>
            <a:ext cx="121932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14600" y="2133720"/>
            <a:ext cx="53352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3200" y="32767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32767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14800" y="32767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320040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32767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32767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52480" y="3276720"/>
            <a:ext cx="68580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32004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29000" y="3352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14800" y="3352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72200" y="3352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0" y="3352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848720" y="19810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66680" y="3352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3352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4800600"/>
            <a:ext cx="8458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first traversal will produce alphabetically ordered sequ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B D E J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, Slid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3808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ature of “links” --  usually pointers, but any reference will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1066680"/>
            <a:ext cx="845820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 chapter9_2 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1828800"/>
            <a:ext cx="8686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ferences are array indexes (arrays are modeled on memory!). This will work fine for a tree with up to 100 nodes. A natural way to serialize a binary t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are linked data structures created on the heap on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3733920"/>
            <a:ext cx="8458200" cy="11912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 chapter9_3 program that is a recursive descent parser for a list of characters separated by commas and builds a binary search tree on the sta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5105520"/>
            <a:ext cx="8686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ough, it is not very pract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commonly, linked data structures are linked by pointers and are build on the hea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, Slid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280" y="304920"/>
            <a:ext cx="8839440" cy="61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er-based linked data structures are “flexible”, which is mostly good, however it is bad for “moving” the structure elsewhere in memory, or “transmitting” it over a communication channel, or “recording” it to auxiliary mem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we say that a linked data structure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ac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it occupies a contiguous segment of memory and all pointers (addresses) are relative to the beginning of that seg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rializ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we say that a linked data structure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rializ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it occupies several contiguous segments of memory and all pointers (addresses) are relative to the beginning of that segment where the pointer is sto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s compaction is the extreme form of serialization. A serialized structure can easily by “moved” in memory just by “moving” the whole segment(s), “transmitted” byte by byte over a communication channel, or “recorded” to auxiliary memory and later restor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, Slid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304920"/>
            <a:ext cx="8458200" cy="825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lustration of serialization+allocation from arena: chapter9_4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1447920"/>
            <a:ext cx="88390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“relativized” addresses are a pair of short integers, the first i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egment+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the second i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ff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Let us now visualize the arena after each stage of the pro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“building”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57200" y="3276720"/>
          <a:ext cx="8077320" cy="214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276720"/>
                    <a:ext cx="8077320" cy="21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2590920"/>
            <a:ext cx="9144000" cy="4267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, Slid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0"/>
          <a:ext cx="8001000" cy="200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0"/>
                    <a:ext cx="8001000" cy="20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457200" y="3124080"/>
          <a:ext cx="8305920" cy="334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124080"/>
                    <a:ext cx="8305920" cy="33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0" y="2590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3124080"/>
            <a:ext cx="9144000" cy="3733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, Slid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04920" y="0"/>
          <a:ext cx="8229600" cy="317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0"/>
                    <a:ext cx="8229600" cy="31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152280" y="3048120"/>
          <a:ext cx="8686800" cy="380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3048120"/>
                    <a:ext cx="868680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, 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28600" y="1371600"/>
          <a:ext cx="8610480" cy="36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371600"/>
                    <a:ext cx="8610480" cy="36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304920" y="38088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ree is build, now we start the relativization proc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0" y="0"/>
          <a:ext cx="8839080" cy="338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839080" cy="338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, Slide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396252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deliberately designed the structure/clas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OD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at it h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12 bytes, but 3 bytes are wasted on pad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80880" y="5334120"/>
          <a:ext cx="838224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5334120"/>
                    <a:ext cx="83822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5T01:33:28Z</dcterms:created>
  <dc:creator>Dr. F. Franek</dc:creator>
  <dc:description/>
  <dc:language>en-US</dc:language>
  <cp:lastModifiedBy>Dr. F. Franek</cp:lastModifiedBy>
  <dcterms:modified xsi:type="dcterms:W3CDTF">2005-10-18T04:50:40Z</dcterms:modified>
  <cp:revision>414</cp:revision>
  <dc:subject/>
  <dc:title>No Slide Title</dc:title>
</cp:coreProperties>
</file>