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B64-580B-488B-96E7-731BFDC1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49C-1C33-40A7-B3E9-EE9DA3AC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B99-BCD2-4B5A-A2DF-2D02F759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982-E9C0-40F7-AFD2-0D15C492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1B8-657E-4322-A6B3-8997D921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E21-BD57-4599-B4F2-22F6699B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64E1-AA97-4A3C-993F-EAE581C4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8BB-7A66-43A3-8BA8-EDE843FD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E12-6A1B-4766-BDF8-5128DF54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79A-6952-4732-9077-B177B53B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C77-7616-49F4-8079-DCFA8CAC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5D0-D943-482A-86C9-CAF4C708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EA80-5276-4005-BD3E-CA3F8EB53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ilation, Linking, Execution of C/C++ programs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ation and l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1371600"/>
          <a:ext cx="87631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763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666880" y="4572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6578640"/>
            <a:ext cx="14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out of C/C++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48320" y="228600"/>
          <a:ext cx="41907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4190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ul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14600" y="1600200"/>
          <a:ext cx="38098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600200"/>
                    <a:ext cx="38098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914400"/>
            <a:ext cx="7391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[10]={0,1,2,3,4,5,6,7,8,9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int k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 = 0; i &lt; 10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%d\n",a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i] = k*a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C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ule of the sample C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609480"/>
          <a:ext cx="81532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1532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lo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40000" y="0"/>
          <a:ext cx="59040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0" y="0"/>
                    <a:ext cx="59040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and memory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1143000"/>
          <a:ext cx="853416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53416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286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ource progra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“placement”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du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81080" y="-152280"/>
          <a:ext cx="640080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-152280"/>
                    <a:ext cx="64008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2286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memory al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120" y="762120"/>
          <a:ext cx="792468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92468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53:04Z</dcterms:modified>
  <cp:revision>27</cp:revision>
  <dc:subject/>
  <dc:title>No Slide Title</dc:title>
</cp:coreProperties>
</file>