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B22-AAC1-4B6D-A534-4A65651B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6A6-8C7E-4939-81FB-3F4C619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EAC-FFD2-40C0-8EA5-F4B6BF5C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5A7-50D5-4821-8927-30F4965D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821-4561-4A2B-B43D-C1DEDEB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7FA-C890-4F4F-B677-7F7652E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64C-241E-4922-8F57-F9F8CCE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98E-2628-4DDC-9F51-059D94D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119-1E7D-4CD0-AECD-52C46E6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BD7-70AE-419B-A7AC-3C29124D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41D-BA53-4D38-A17F-E5C2D54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6DE-10DF-4784-B6CA-5934975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66D5-5F27-46A4-8ED9-03ECCC5FA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6_1_prog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-dimensional arrays and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3124080"/>
          <a:ext cx="8305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array - an extension of the basic model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792468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++ we can overload operator [] and create “arrays” with range checking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chapter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362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 one-dimensional array via a poi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52480"/>
          <a:ext cx="8991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91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8915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1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21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3434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rray is “forgotten” (after passing it to a function), no index range run-time testing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passed by reference, as the pointer representing it is passed by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oit(int y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0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1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={10,11,12,13,14,1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i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3880"/>
          <a:ext cx="88394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83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45720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display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1 12 13 14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one-dimensional arrays is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6*sizeof(int)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x == NULL)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0]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1] = 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2]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3] = 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4] =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5] = 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re char arrays terminated by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can be stored in a static arra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in a dynamic arra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30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is represented by a pointer and passed by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strcpy(char* dest,const char* 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*dest1 = d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(*dest++=*src++) !=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des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79246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NULL could spell big troubles (see overflow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cating memory for a string is the most common error (leading to erratic behaviou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memory could spell troubles (overflows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malloc(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38:50Z</dcterms:modified>
  <cp:revision>286</cp:revision>
  <dc:subject/>
  <dc:title>No Slide Title</dc:title>
</cp:coreProperties>
</file>