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3A1B-5B7C-4115-A8F2-619B4DFA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9CA0-658D-4509-8DC1-A0E4CECD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8621-F4FD-4621-8C4A-804DB9FD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D1E-05AD-4519-8229-444B9829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BE0-C0A1-41B2-84BD-6DFC9B3D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19A-370B-4206-AEED-9015DE06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CF2-87D4-4522-B76F-2202B226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ACB-293F-4B75-B35A-09615A5A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43E-073F-41BC-9D38-9ACEEB16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1A1-A308-48C7-A866-CA8BF779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DCB-2E1A-4F74-9AC1-C5BD12B7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808-EAFF-488D-A431-B93AF6FF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50A3-7827-4B10-A812-BFF2544AC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9_1_prog.html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cas.mcmaster.ca/~franek/books/membook-slides/ch9_5_prog.html" TargetMode="External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ked Data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371600"/>
            <a:ext cx="8458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ed data structures - versatile data structures to model complex real world situations and entities. List, stacks, trees, graphs etc. just to mention s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simple binary search tree for charac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200400"/>
            <a:ext cx="84582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9_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03848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time complexity to search for an item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 log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: Binary tree, left child has value less than the parent, the right child has value greater than the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772400" y="6583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compact the nodes with no space was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219320"/>
          <a:ext cx="807696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0769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52280" y="2133720"/>
            <a:ext cx="883944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n we cannot use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-&gt;lc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-&gt;r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e must have our custom-made access functions: analyze chapter9_5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3276720"/>
          <a:ext cx="8458200" cy="305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3276720"/>
                    <a:ext cx="8458200" cy="30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772400" y="6583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elativ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685800"/>
          <a:ext cx="838188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3818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590920" y="48769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2004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2286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142640" y="609480"/>
            <a:ext cx="335268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609480"/>
            <a:ext cx="167616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866920" y="2209680"/>
            <a:ext cx="16765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752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85440" y="2133720"/>
            <a:ext cx="1219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2133720"/>
            <a:ext cx="5335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32004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200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48720" y="1981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8006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first traversal will produce alphabetically ordered sequ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 D E J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ture of “links” --  usually pointers, but any reference will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066680"/>
            <a:ext cx="84582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9_2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82880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ferences are array indexes (arrays are modeled on memory!). This will work fine for a tree with up to 100 nodes. A natural way to serialize a binary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are linked data structures created on the heap on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733920"/>
            <a:ext cx="8458200" cy="119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9_3 program that is a recursive descent parser for a list of characters separated by commas and builds a binary search tree on the 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510552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, it is not very prac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ly, linked data structures are linked by pointers and are build on the he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304920"/>
            <a:ext cx="883944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-based linked data structures are “flexible”, which is mostly good, however it is bad for “moving” the structure elsewhere in memory, or “transmitting” it over a communication channel, or “recording” it to auxiliary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say that a linked data struc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a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it occupies a contiguous segment of memory and all pointers (addresses) are relative to the beginning of that seg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i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say that a linked data struc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ial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it occupies several contiguous segments of memory and all pointers (addresses) are relative to the beginning of that segment where the pointer is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compaction is the extreme form of serialization. A serialized structure can easily by “moved” in memory just by “moving” the whole segment(s), “transmitted” byte by byte over a communication channel, or “recorded” to auxiliary memory and later resto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920"/>
            <a:ext cx="845820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on of serialization+allocation from arena: chapter9_4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447920"/>
            <a:ext cx="8839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relativized” addresses are a pair of short integers, the first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gment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second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Let us now visualize the arena after each stage of the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“building”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3276720"/>
          <a:ext cx="807732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76720"/>
                    <a:ext cx="80773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590920"/>
            <a:ext cx="9144000" cy="4267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0"/>
          <a:ext cx="8001000" cy="20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00100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57200" y="3124080"/>
          <a:ext cx="8305920" cy="33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124080"/>
                    <a:ext cx="83059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124080"/>
            <a:ext cx="9144000" cy="3733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0"/>
          <a:ext cx="822960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22960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52280" y="3048120"/>
          <a:ext cx="868680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048120"/>
                    <a:ext cx="86868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1371600"/>
          <a:ext cx="8610480" cy="36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610480" cy="36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04920" y="380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is build, now we start the relativ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8839080" cy="33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3908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9625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liberately designed the structure/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at it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12 bytes, but 3 bytes are wasted on pad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5334120"/>
          <a:ext cx="83822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334120"/>
                    <a:ext cx="8382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50:40Z</dcterms:modified>
  <cp:revision>414</cp:revision>
  <dc:subject/>
  <dc:title>No Slide Title</dc:title>
</cp:coreProperties>
</file>