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4A0-41E6-4CC5-8B13-8A596F9C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486-A13D-4117-894C-8D2965EB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5C1-6AFD-4F8A-9249-B29D6360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A58-877E-463C-B71B-97A4D1E4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9E2-E174-453B-8841-BA8A84F9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6FB-BA3A-4058-9D9D-692C0639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0E5-BD73-43BA-8CD1-196DA9DC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F7A-9194-4C44-BFD1-B1450287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8DF-3ADB-45E8-9867-504B804B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1AE-5633-4180-AFC8-0E11A14B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F6D-8ED5-4506-878D-238A3616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F77-3541-45C5-A62F-B54D9E32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D270-C499-43B8-804E-9E72D7955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 allocation and deallocation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1143000"/>
          <a:ext cx="8458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45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838080"/>
            <a:ext cx="85341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imple “accounting” of what process owns what part(s) of the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aking an entry in the “accounting book” that this segment is given to this process for ke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de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ntry that this segment is not needed by this process and hence “fre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ing system process manager usually keeps track of allocated blocks in a data structu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hea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which each node is labeled by a label that is smaller than labels of all its descend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ts purpose is to facilitate fast and efficient searching for a suitable fre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eap is sometimes referred to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he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 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52280"/>
            <a:ext cx="87631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memory manager usually keeps a dynamic list of free se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implications is that every time your program requests more memory, the process memory manager has to search through the list to find a suitable segment; if none is found, more memory must be requested from the operating system memory manager that must search the system heap for a suitable block and when delivered to the process memory manager, a suitable segment must be carved out from the freshly allocated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delay cannot be determined. Thus, if a program does a significant number of allocations and deallocations, the unpredictable delays caused by these may affect the program'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ssues must be considered for real-time software systems and for all programs where performance is essential. We will look at these issues when we discuss the concep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cation from are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mory manager in C programs is engaged through various interfaces (standard func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arbitr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053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calloc(size_t nelem,size_t el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419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lem*el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clear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410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realloc(void* ptr,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53352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reallocated segment can be extended, it is done so, otherwise a new segment is created, the contentrs of the old segment are copied to the new one, and the old segment is deallo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less us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leads to dangling pointers! extending node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14400" y="3124080"/>
          <a:ext cx="73152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315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981080"/>
          <a:ext cx="79250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79250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880" y="762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possible, all is f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7621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not possible, reallocation was necessayr, right child of node a is dangl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828800"/>
          <a:ext cx="8763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763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80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free(void* 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28195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47:38Z</dcterms:modified>
  <cp:revision>173</cp:revision>
  <dc:subject/>
  <dc:title>No Slide Title</dc:title>
</cp:coreProperties>
</file>