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5324-1D1E-4975-BB7A-B7383E49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902-7909-4B24-B816-21E9C53E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FE0-237F-4483-AF1C-F76CC088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7A0-0915-41BB-9479-43E6A94D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8B4-80D4-4417-AE54-CEF6741E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BFD-B247-481D-ACA9-B482DB0A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5DE0-78C7-4EAE-AC89-A9C0AE61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190-1EEF-4BA2-B328-16C6AB11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BF81-EA8A-42A6-AF8B-5E3875EF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CB0-5A68-494B-9285-77D76494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1B7-833C-472B-A60E-ED604245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514-6FC9-49A3-A812-0F14DEF2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1391-88B2-4D1F-B1DF-719060782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6_1_prog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e-dimensional arrays and str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3124080"/>
          <a:ext cx="830592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24080"/>
                    <a:ext cx="83059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33520" y="16002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ept of array - an extension of the basic model of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20120" y="6583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80880"/>
            <a:ext cx="792468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++ we can overload operator [] and create “arrays” with range checking: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chapter6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3623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ing one-dimensional array via a poin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1752480"/>
          <a:ext cx="899172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99172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143000"/>
          <a:ext cx="8915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15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62120" y="838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6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34340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rray is “forgotten” (after passing it to a function), no index range run-time testing i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passed by reference, as the pointer representing it is passed by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52280"/>
            <a:ext cx="8686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doit(int y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[0]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[1]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6]={10,11,12,13,14,15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it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6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",x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523880"/>
          <a:ext cx="883944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3880"/>
                    <a:ext cx="883944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219320" y="45720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displays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 1 12 13 14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one-dimensional arrays is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6668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*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malloc(6*sizeof(int))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x == NULL)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0]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1] = 1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2] = 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3] = 1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4] = 1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5] = 1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572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6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",x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9718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 are char arrays terminated by NU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 string can be stored in a static array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x[30] = "hello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x[3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x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ell as in a dynamic arra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malloc(30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x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 string is represented by a pointer and passed by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657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strcpy(char* dest,const char* sr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*dest1 = de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(*dest++=*src++) != 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dest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79246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NULL could spell big troubles (see overflows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ocating memory for a string is the most common error (leading to erratic behaviou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p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fficient memory could spell troubles (overflows)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 = malloc(5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p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38:50Z</dcterms:modified>
  <cp:revision>286</cp:revision>
  <dc:subject/>
  <dc:title>No Slide Title</dc:title>
</cp:coreProperties>
</file>