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A44E-E2C0-4E65-ADC8-D3D1C437B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060C-8FC3-4E6D-ACF8-53F72B080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5957-9963-4432-A880-A07FAF98F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27E4-4764-469F-BBDC-2C77EA58A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D720-A0F8-42CA-A918-893A76E96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A606-3F00-4CC3-852E-75C067FD6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4B8E-93B0-4779-A095-069DB656A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2F7A-CBC0-42F9-914C-01C3E0A7D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43A1-91D4-42A9-BEEB-B1F3A02AD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0DE3-65D5-47FF-887E-690190404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B874-A136-4198-A6A3-816977373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7AD5-6F7F-47D1-BAE4-569B4A616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EA7BF-7A18-4990-892F-B4CD4A0069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as.mcmaster.ca/~cs2sc3/slides/membook/ch8_1_prog.html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cas.mcmaster.ca/~cs2sc3/slides/membook/ch8_2_prog.html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4572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lasses and Objec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8, Slid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066680" y="685800"/>
          <a:ext cx="693432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685800"/>
                    <a:ext cx="693432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990720" y="56386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and it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ncaps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7696080" y="658332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8, Slide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2280" y="228600"/>
            <a:ext cx="8686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ver pass a pointer 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le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has not been returned previously by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allocate segments allocated by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ing exclusively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le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ver pass a pointer 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lete[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has not been returned previously by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w[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allocate segments allocated by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w[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ing exclusively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lete[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your program uses placement-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it should have a corresponding placement-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le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even though it will be only called implicitly by the compiler when an exception is thrown during the construction of an obj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696080" y="658332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8, Slide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5228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 construct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920" y="838080"/>
            <a:ext cx="830556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ze chapter8_6 progr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1600200"/>
            <a:ext cx="8458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will work fine displaying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hey Jo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 the screen. The object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reated in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main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ing constructor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(char*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ll be copied to the activation frame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doit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ing the copy constru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(const C&amp;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When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doit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erminates, the object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-- as built in the activation frame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doit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-- is destructed using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~C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out the copy constructor (the memberwise copy constructor would have been used), the program would have crashed, as no “deep” copy of the salutation would have been provided, yet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~C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ould still try to deallocate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96080" y="658332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8, Slide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228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ignment operator   ---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operator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280" y="685800"/>
            <a:ext cx="8991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method specifies how to perform assignments of type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o1=o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two objects (which is in a sense again a form of copying, from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o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o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 In the absence of an explicit assignment,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emberwise assign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performed. The same problems may ensue as discussed for the missing copy constructor. However, a missing assignment is even more dangerous as it can lead to memory leak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lass C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};//end class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int doi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 c1("hey Joe"), c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1=c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return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} //end do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696080" y="658332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8, Slide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280" y="304920"/>
            <a:ext cx="8991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created and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1.salut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ints to a dynamically created string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"hey Joe"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created using the default constructor and hence the value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2.saluta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set 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When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1=c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signment is performed, due to the absence of an explicit assignment method in the definition of the class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memberwise copy is performed and thus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1.salut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set 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When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destructed, none of them is “linked” to the string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"hey Joe"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so the string is never deallocated and “leaks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ifference betwee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p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ssign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sults from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t that the copy is concerned with “forming the raw memory into an object” while the assignment must deal with a “well-constructed object’”, thus in essence the assignment must de-construct the object before it can do the copy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5715000"/>
            <a:ext cx="830556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ze chapter8_7 progr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7696080" y="658332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8, Slide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743200" y="685800"/>
            <a:ext cx="9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 of slides for chapter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8, Slid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380880"/>
            <a:ext cx="739152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herit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facilitated by subclasses (derived class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olymorphis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characterized by overloading of names of methods and operators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C “data containers” can be either in static memory, on the heap, or on the stack. C++ objects can span all th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3048120"/>
            <a:ext cx="807732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chapter8_1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gr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609480" y="3505320"/>
          <a:ext cx="7772400" cy="3047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3505320"/>
                    <a:ext cx="7772400" cy="30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8, Slid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380880"/>
            <a:ext cx="73915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some global objects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ample sample ("hey");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ample sample1("good by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533520" y="2133720"/>
          <a:ext cx="80010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133720"/>
                    <a:ext cx="80010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8, Slid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380880"/>
            <a:ext cx="822960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ze program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chapter8_2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gr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548640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tructor is missing, memory is leakin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57200" y="1523880"/>
          <a:ext cx="8077320" cy="358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523880"/>
                    <a:ext cx="807732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8, Slid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uctors and destructors are not inherited from the base class. The base constructor may be invoked implicitly or explicitly. The base destructor will be invoked implicit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828800"/>
            <a:ext cx="822960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ze chapter8_3 progr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2590920"/>
            <a:ext cx="807696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gram will display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hey,Jo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nd then (the main purpose of this illustration)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~CC() invok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llowed by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~C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voked. Notice the reverse order of destructors call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C allocators/deallocator can be used in C++. On top of it, there are two new operators -- allocator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nd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new[]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deallocator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dele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nd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delete[]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8, Slid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304920"/>
            <a:ext cx="807732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ails, it either uses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new_handl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throws an exception of type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bad_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perator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involved in object creation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lass X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publi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X(..) { .... } // constru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};//end clas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X* pt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ptr = new X(..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8, Slide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193680"/>
            <a:ext cx="83059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cement syntax of the operator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n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#include &lt;new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lass X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publi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void* operator new(size_t s,int a1,int a2){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... 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};//end clas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int main 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X* ptr = new(1,2)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return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8, Slid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228600"/>
            <a:ext cx="86868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though destructors cannot be called explicitly, a placement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n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hould have a corresponding “placement”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dele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ed only when construction fails midway):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#include &lt;new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lass X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publi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void* operator new(size_t s,int a1,int a2){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... 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}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void operator delete(void* p,int a1,int a2){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...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};//end clas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8, Slide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286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rays of objects must be created by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new[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ing default constructors only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1" action="ppaction://hlinksldjump"/>
          </p:cNvPr>
          <p:cNvSpPr/>
          <p:nvPr/>
        </p:nvSpPr>
        <p:spPr>
          <a:xfrm>
            <a:off x="304920" y="2666880"/>
            <a:ext cx="830556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ze chapter8_5 progr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20574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have to be deallocated by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delete[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rId2" action="ppaction://hlinksldjump"/>
          </p:cNvPr>
          <p:cNvSpPr/>
          <p:nvPr/>
        </p:nvSpPr>
        <p:spPr>
          <a:xfrm>
            <a:off x="304920" y="1295280"/>
            <a:ext cx="830556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ze chapter 8_4 progr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3429000"/>
            <a:ext cx="8686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few guidelines to make sure that the process memory manager does not get corrupt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ver pass a pointer 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ree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has not been returned previously by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lloc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lloc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alloc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allocate segments allocated by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lloc()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lloc()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alloc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} using exclusively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ree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5T01:33:28Z</dcterms:created>
  <dc:creator>Dr. F. Franek</dc:creator>
  <dc:description/>
  <dc:language>en-US</dc:language>
  <cp:lastModifiedBy>Dr. F. Franek</cp:lastModifiedBy>
  <dcterms:modified xsi:type="dcterms:W3CDTF">2005-10-18T04:47:18Z</dcterms:modified>
  <cp:revision>383</cp:revision>
  <dc:subject/>
  <dc:title>No Slide Title</dc:title>
</cp:coreProperties>
</file>