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869-08A5-4BAA-A4FD-4A688A2D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3AC-0C63-4819-8BC5-958AEAD7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01C-A0EA-457A-BE48-F8779107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4BB-18CB-4179-B351-6CC470E1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7DF-CA5B-480E-8CFF-94DDB8AB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0B8-EEA8-43F3-93ED-594FF17E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F31-1BFC-4F1E-ACEA-CADE8822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0BB-D995-4EE3-8612-3C6CFA29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D9E-54BB-43E4-91B2-757CDE01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B51-56A7-4ADE-BBC5-1E79DEAF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98E-AC1D-4B36-9883-8D820A4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7E5-F88B-43C8-A078-EC4130E5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1478-9F69-45A8-B8FA-946091C2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9_1_prog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cas.mcmaster.ca/~franek/books/membook-slides/ch9_5_prog.html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ed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37160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data structures - versatile data structures to model complex real world situations and entities. List, stacks, trees, graphs etc. just to mention 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imple binary search tree for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0040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9_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0384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ime complexity to search for an item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: Binary tree, left child has value less than the parent, the right child has value greater than the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compact the nodes with no space wa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219320"/>
          <a:ext cx="8076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076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2280" y="2133720"/>
            <a:ext cx="883944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n we cannot use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l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must have our custom-made access functions: analyze chapter9_5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276720"/>
          <a:ext cx="8458200" cy="30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276720"/>
                    <a:ext cx="845820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lativ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685800"/>
          <a:ext cx="8381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381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590920" y="48769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28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42640" y="60948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609480"/>
            <a:ext cx="16761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866920" y="2209680"/>
            <a:ext cx="16765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75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5440" y="213372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133720"/>
            <a:ext cx="533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006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first traversal will produce alphabetically ordered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 D E J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ure of “links” --  usually pointers, but any reference will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2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8288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ferences are array indexes (arrays are modeled on memory!). This will work fine for a tree with up to 100 nodes. A natural way to serialize a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are linked data structures created on the heap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733920"/>
            <a:ext cx="845820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3 program that is a recursive descent parser for a list of characters separated by commas and builds a binary search tree on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510552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, it is not very prac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ly, linked data structures are linked by pointers and are build on the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04920"/>
            <a:ext cx="88394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-based linked data structures are “flexible”, which is mostly good, however it is bad for “moving” the structure elsewhere in memory, or “transmitting” it over a communication channel, or “recording” it to auxiliary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a contiguous segment of memory and all pointers (addresses) are relative to the beginning of that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ial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several contiguous segments of memory and all pointers (addresses) are relative to the beginning of that segment where the pointer is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compaction is the extreme form of serialization. A serialized structure can easily by “moved” in memory just by “moving” the whole segment(s), “transmitted” byte by byte over a communication channel, or “recorded” to auxiliary memory and later resto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of serialization+allocation from arena: chapter9_4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44792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relativized” addresses are a pair of short integers, the firs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gmen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second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Let us now visualize the arena after each stage of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“building”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276720"/>
          <a:ext cx="807732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077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0"/>
          <a:ext cx="8001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001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" y="3124080"/>
          <a:ext cx="830592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24080"/>
                    <a:ext cx="8305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0"/>
          <a:ext cx="822960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22960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280" y="3048120"/>
          <a:ext cx="86868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8686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371600"/>
          <a:ext cx="861048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104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380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is build, now we start the relativ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883908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962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liberately designed the structure/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 it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12 bytes, but 3 bytes are wasted on pad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5334120"/>
          <a:ext cx="83822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4120"/>
                    <a:ext cx="8382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50:40Z</dcterms:modified>
  <cp:revision>414</cp:revision>
  <dc:subject/>
  <dc:title>No Slide Title</dc:title>
</cp:coreProperties>
</file>